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DB0B-EDD0-49D6-A920-397AFE59C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A192-6CB3-425D-A250-BF222B1FA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EDD3-9CEE-450C-8759-BBB6AA4C6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3F6D-CBEE-4957-A713-6198DFCAB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B905-1315-42EF-9C74-089A9A97C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E461-4619-419E-A115-023C1A31B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47AF-C354-4905-9EF0-5EECE2D80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5EEE-BBC6-4012-978B-AA0D631BF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F4D3-6C44-4129-A808-253F84395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3BBF-F38D-41CE-A17E-E10A68AAD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A190-E1B9-45AF-ADC6-6723792BB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F8C1-E1FC-4931-8373-DE1086547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D362-130A-4D63-8F29-29E505D5E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C1E4-7F2F-4605-BDD9-6F32FB682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A18D-CA37-4A1B-B840-7153966DBB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102B-EC30-481E-ABAA-98D1824D6E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9FC8-3A9F-4C8A-B21D-7B8F9E569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7F85-ECF9-4528-A9F3-98A503D72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8FF7-025C-4D4A-8D52-38DD76BE6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3261-2D4B-41C4-9BE3-B74DAE16B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50EF-1C6F-4CCA-8F1E-10DF55FD2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AC50-5446-45B3-971B-076929587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7DA2-1FD3-4035-BA2C-42BCE989C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B699-F2B3-4993-82DA-13A9164BA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9552-46F3-4B88-892E-59DA72C17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5-1.jpg"/>
          <p:cNvPicPr/>
          <p:nvPr/>
        </p:nvPicPr>
        <p:blipFill>
          <a:blip r:embed="rId1"/>
          <a:stretch/>
        </p:blipFill>
        <p:spPr>
          <a:xfrm>
            <a:off x="3276720" y="2666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AB61-974B-4EC2-8F83-019C8005A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intern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rganization’s 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organization’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al content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7B70-7CB1-4E51-970A-61D07E5BF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Decision Considera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mportant factors to consider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nd expertise to               desig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( i.e., how so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need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5-11.jpg"/>
          <p:cNvPicPr/>
          <p:nvPr/>
        </p:nvPicPr>
        <p:blipFill>
          <a:blip r:embed="rId1"/>
          <a:stretch/>
        </p:blipFill>
        <p:spPr>
          <a:xfrm>
            <a:off x="6019920" y="2438280"/>
            <a:ext cx="2468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604C-509E-4DEB-BBC0-F7BA69B0E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Request for Propos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RFP is a document that outlines to potential vendors and consultants an organization’s training and projec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P’s include section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company and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of project and statement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on how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ervic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D7CD-BC4C-492D-8567-6FAA75FA9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ucial stage as it must be based on training need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priority question: “What is to be learned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 and training objectives guide cont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5-13.jpg"/>
          <p:cNvPicPr/>
          <p:nvPr/>
        </p:nvPicPr>
        <p:blipFill>
          <a:blip r:embed="rId1"/>
          <a:stretch/>
        </p:blipFill>
        <p:spPr>
          <a:xfrm>
            <a:off x="5257800" y="2362320"/>
            <a:ext cx="3710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40CC-DCF4-45F9-838B-8BDD4B038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legislated, or identified by Subject Matter Expert (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 what degree content is to be learned based on performance standard in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5-14A.jpg"/>
          <p:cNvPicPr/>
          <p:nvPr/>
        </p:nvPicPr>
        <p:blipFill>
          <a:blip r:embed="rId1"/>
          <a:stretch/>
        </p:blipFill>
        <p:spPr>
          <a:xfrm>
            <a:off x="5486400" y="1600200"/>
            <a:ext cx="2841480" cy="188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5-14B.jpg"/>
          <p:cNvPicPr/>
          <p:nvPr/>
        </p:nvPicPr>
        <p:blipFill>
          <a:blip r:embed="rId2"/>
          <a:stretch/>
        </p:blipFill>
        <p:spPr>
          <a:xfrm>
            <a:off x="5334120" y="365760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B9CE-1C20-4D14-80B3-0F229A3D9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is an extensive topic and is covered in more detail in following chap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can be distinguished by several factors including where they occ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n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job instruction training, coaching, performance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ff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lassroom,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 based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, computer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5B25-3137-40A3-B05A-E4A208B1A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and retention are best achieved through the use of methods that promot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productive responses;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reby the trainee actively uses the training content rather than passively watches, listens, or imitates th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y organizations fin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lended training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ombination of approaches to training, is the bes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6B2A-165C-4DA7-9DC9-014F4E6A9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Active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actice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hysical or mental rehearsal of a task, skill, 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ing trainees with opportunities to practice performing a training task or using knowledg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5-17.jpg"/>
          <p:cNvPicPr/>
          <p:nvPr/>
        </p:nvPicPr>
        <p:blipFill>
          <a:blip r:embed="rId1"/>
          <a:stretch/>
        </p:blipFill>
        <p:spPr>
          <a:xfrm>
            <a:off x="5943600" y="2666880"/>
            <a:ext cx="292572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A78F-6313-4E5C-BB8C-BD4041157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ies or interventions that can be implemented prior to a training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 Attentional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Metacogni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1756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acognition: self-regulatory process  that helps people guid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419112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AD97-226C-432D-9BA0-A32185052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384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Go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astery or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Prepara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.  Pre-practice brief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specific to team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5-19.jpg"/>
          <p:cNvPicPr/>
          <p:nvPr/>
        </p:nvPicPr>
        <p:blipFill>
          <a:blip r:embed="rId1"/>
          <a:stretch/>
        </p:blipFill>
        <p:spPr>
          <a:xfrm>
            <a:off x="5962680" y="2666880"/>
            <a:ext cx="3181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8D9E-4170-49BE-BBA3-B1EC54E3F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write training objectives and describe their five elements and thre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actors to consider when deciding to purchase or design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urpose of an RFP and how to creat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ways to determine the content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ypes of training methods and define blend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25B0-2245-42A6-B5B2-60EEF9BAD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31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s of practice dur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le vs. par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sk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edback or knowledge                            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5-20.jpg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AA72-2C63-4F95-925C-620ABB9AB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approach to learning reinfor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reproducing specific behaviours in similar settings and st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jobs and tasks 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eing able to use knowledge and skills across a range of tasks, settings, and situations. Deeper understanding of the task is required to achieve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84D8-4C91-4A5E-AA54-5A6FE5A49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achieved with more 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is given control over their own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rules, principles, strategies for performance of a task are learned through exploration and experim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u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s knowledge to the learner, and gives more guidance and structure on what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089C-444B-4157-A4B2-F523BF9DE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be designed for active learning using several desig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atory/discovery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proceduraliz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fram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ing errors and viewing errors as instrumental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ion contr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 as learning can evoke stress and anxiety which can hinder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18DA-7C18-4243-8D7D-64D247BEB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active learning is error framing which is discussed in more detail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stimulates metacognitive activities to a greater extent than proceduralized instruction and helps to explain the effects of active learning strategies on adaptiv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227A-3F73-43CE-9E76-96797EA01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that encourages trainees to make errors while learning and to learn from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are a form of negative feedback that can have a positive and informative function i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d by providing only basic information or minimal instructions about how to perform a task being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CFD0-249F-488B-A32F-1DAC97EC3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introduced to various problems, invited to explore/solve on their own (active explo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will try different approaches, likely making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instru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cessary to avoid frustration and to frame errors pos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avoida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CD0D-AA87-44CA-A49A-9292FE196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avoidant trai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hat explicitly avoids or minimizes trainee errors while learning to perform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given detailed, step by step instructions on how to perform a task with the goal of avoid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rrors are made trainer intervenes and correct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0752-8359-4150-9C4A-E51F00B0E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of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s trainees of K/S that need improvement and provide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develop thoughtful strategies and deeper processing of information leading to mental models for tas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practice enroute to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“error-recovery strateg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exploration to determine reasons for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6826-8A62-46A8-8B5A-C7F4ECF05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-management training is particular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ost-train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erformance of tasks that require adaptive expertise, known as adapt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ccompanied by error-management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design element for facilitating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1820-3B82-4D48-8B9F-B35F517E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ractice and active practice, the conditions of practice before and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 between routine expertise and adaptive expertise and the implications of each for training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ctive learning and describe training design elements to develop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rror-management training and describe when it is most likely to result in positive trai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E732-A310-4939-B5C7-AC9D7955C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 of Training Effectivenes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ble to add Training Design to this model as shown in Fig 5.1 as influences on training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FDC2-3FD3-408C-9748-8FCA43F4D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main activities involved in the design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elements, components, and writing of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decision factors related to purchase or design of training and importance of R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factors involved in desig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active learning and design elements that promote adaptive expertise including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C1F2-5D4B-4321-9A00-C6B1E3AEF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on from the first step of the ISD model (Needs Analysis), the second step is Training Design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 related to Training Design and Delivery are explored in the next five chapters beginning with Training Design in this chap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E07F-832A-4A93-85C2-BB6A8CA9A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7" name="Picture 4" descr="F1-2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E25C-A8DA-4239-A8E3-19A048AB8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tement of what trainees are expected to be able to do after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5-6.jpg"/>
          <p:cNvPicPr/>
          <p:nvPr/>
        </p:nvPicPr>
        <p:blipFill>
          <a:blip r:embed="rId1"/>
          <a:stretch/>
        </p:blipFill>
        <p:spPr>
          <a:xfrm>
            <a:off x="4846680" y="182880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D526-C7D8-41A3-98DA-8996C8AEA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objectives should include five key elements of the desired out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o perform the desired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ctual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tandard by which the behaviour will be judg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82C3-9082-411A-B86A-5D9D8CB73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 written objectives should contain three key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5-8.jpg"/>
          <p:cNvPicPr/>
          <p:nvPr/>
        </p:nvPicPr>
        <p:blipFill>
          <a:blip r:embed="rId1"/>
          <a:stretch/>
        </p:blipFill>
        <p:spPr>
          <a:xfrm>
            <a:off x="5303880" y="2133720"/>
            <a:ext cx="3840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68F3-956B-4F7B-8C76-BE9B952E0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of packag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custo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nefits from others’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ns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less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18:16:43Z</dcterms:modified>
  <cp:revision>302</cp:revision>
  <dc:subject/>
  <dc:title>Chapter 5</dc:title>
</cp:coreProperties>
</file>